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3B3F-18FF-4480-A8BD-F833A1C721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33F1-8193-454B-AB3B-20C5E3D36A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сентября в бесл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E368-553C-468E-8641-0D304EF74E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0F9-0413-4CB9-86E6-C6708061F8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6A6B-BAEB-46BB-B68E-59993EFE1A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хо бесланской печа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F70A-5FB8-4D03-BC8B-147C637F48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 пуль свистящих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3CB8-A6A2-43B3-B716-7BB0D659F0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0697-8565-442A-B6B2-990E42DB96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ьканье лиц детей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AD0C-5B92-48DD-A013-89C262420F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D4F-5E0A-446C-B856-6FD71C0D25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ч матер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BF5-4B79-4DF4-BB63-7AF5FA2788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3478-C7C7-4F04-9093-5CD54DD86A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FDE-BDE1-4548-8CEB-F0091DE4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129-7DE3-4F71-A439-0D5172CA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DC2-9F5A-47F6-951A-F2A0D6E7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A7D-82FA-4A68-B746-03EB5BCA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47E-0930-4BFC-B68D-0CAC9246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A15-D10D-4DF5-B0FD-6B964800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D00-3213-4B5E-9DED-4C964431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E3E-4731-415E-B7F2-9A8192C0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418-4F30-46DF-8681-06F36D92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A68-9BAD-4481-857E-B9E528E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C37-A986-449C-B843-C0027CCE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DCE-3571-462B-A863-CD97C38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C909-91E9-4745-BDE4-172912B812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Ванюша\Рабочий стол\фото беслан\5.jpg"/>
          <p:cNvPicPr/>
          <p:nvPr/>
        </p:nvPicPr>
        <p:blipFill>
          <a:blip r:embed="rId1"/>
          <a:stretch/>
        </p:blipFill>
        <p:spPr>
          <a:xfrm>
            <a:off x="380880" y="380880"/>
            <a:ext cx="5029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3" descr="C:\Documents and Settings\Ванюша\Рабочий стол\фото беслан\5а.jpg"/>
          <p:cNvPicPr/>
          <p:nvPr/>
        </p:nvPicPr>
        <p:blipFill>
          <a:blip r:embed="rId2"/>
          <a:stretch/>
        </p:blipFill>
        <p:spPr>
          <a:xfrm>
            <a:off x="5257800" y="2362320"/>
            <a:ext cx="35053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Ванюша\Рабочий стол\фото беслан\16.jpg"/>
          <p:cNvPicPr/>
          <p:nvPr/>
        </p:nvPicPr>
        <p:blipFill>
          <a:blip r:embed="rId1"/>
          <a:stretch/>
        </p:blipFill>
        <p:spPr>
          <a:xfrm>
            <a:off x="-648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Ванюша\Рабочий стол\фото беслан\17.jpg"/>
          <p:cNvPicPr/>
          <p:nvPr/>
        </p:nvPicPr>
        <p:blipFill>
          <a:blip r:embed="rId1"/>
          <a:stretch/>
        </p:blipFill>
        <p:spPr>
          <a:xfrm>
            <a:off x="785880" y="0"/>
            <a:ext cx="7715160" cy="6858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Ванюша\Рабочий стол\фото беслан\1.jpg"/>
          <p:cNvPicPr/>
          <p:nvPr/>
        </p:nvPicPr>
        <p:blipFill>
          <a:blip r:embed="rId1"/>
          <a:stretch/>
        </p:blipFill>
        <p:spPr>
          <a:xfrm>
            <a:off x="533520" y="304920"/>
            <a:ext cx="34290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" name="Picture 3" descr="C:\Documents and Settings\Ванюша\Рабочий стол\фото беслан\1!.jpg"/>
          <p:cNvPicPr/>
          <p:nvPr/>
        </p:nvPicPr>
        <p:blipFill>
          <a:blip r:embed="rId2"/>
          <a:stretch/>
        </p:blipFill>
        <p:spPr>
          <a:xfrm>
            <a:off x="5257800" y="533520"/>
            <a:ext cx="37591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Picture 4" descr="C:\Documents and Settings\Ванюша\Рабочий стол\фото беслан\1№.jpg"/>
          <p:cNvPicPr/>
          <p:nvPr/>
        </p:nvPicPr>
        <p:blipFill>
          <a:blip r:embed="rId3"/>
          <a:stretch/>
        </p:blipFill>
        <p:spPr>
          <a:xfrm>
            <a:off x="228600" y="3429000"/>
            <a:ext cx="2895480" cy="220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" name="Picture 5" descr="C:\Documents and Settings\Ванюша\Рабочий стол\фото беслан\1р.jpg"/>
          <p:cNvPicPr/>
          <p:nvPr/>
        </p:nvPicPr>
        <p:blipFill>
          <a:blip r:embed="rId4"/>
          <a:stretch/>
        </p:blipFill>
        <p:spPr>
          <a:xfrm>
            <a:off x="6324480" y="4038480"/>
            <a:ext cx="2286000" cy="19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WordArt 6"/>
          <p:cNvSpPr txBox="1"/>
          <p:nvPr/>
        </p:nvSpPr>
        <p:spPr>
          <a:xfrm>
            <a:off x="3657600" y="144792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2362320" y="1268280"/>
            <a:ext cx="4495680" cy="246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сланская</a:t>
            </a:r>
            <a:endParaRPr b="0" i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трагедия </a:t>
            </a:r>
            <a:endParaRPr b="0" i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3200400" y="4038480"/>
            <a:ext cx="2971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0 лет спустя</a:t>
            </a:r>
            <a:endParaRPr b="0" i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Ванюша\Рабочий стол\фото беслан\9.jpg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Ванюша\Рабочий стол\фото беслан\8б.gif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Ванюша\Рабочий стол\фото беслан\9а.jpg"/>
          <p:cNvPicPr/>
          <p:nvPr/>
        </p:nvPicPr>
        <p:blipFill>
          <a:blip r:embed="rId1"/>
          <a:stretch/>
        </p:blipFill>
        <p:spPr>
          <a:xfrm>
            <a:off x="533520" y="533520"/>
            <a:ext cx="4267080" cy="380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" name="Picture 3" descr="C:\Documents and Settings\Ванюша\Рабочий стол\фото беслан\m_14769.jpg"/>
          <p:cNvPicPr/>
          <p:nvPr/>
        </p:nvPicPr>
        <p:blipFill>
          <a:blip r:embed="rId2"/>
          <a:stretch/>
        </p:blipFill>
        <p:spPr>
          <a:xfrm>
            <a:off x="4572000" y="2438280"/>
            <a:ext cx="426708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Ванюша\Рабочий стол\фото беслан\2!.jpg"/>
          <p:cNvPicPr/>
          <p:nvPr/>
        </p:nvPicPr>
        <p:blipFill>
          <a:blip r:embed="rId1"/>
          <a:stretch/>
        </p:blipFill>
        <p:spPr>
          <a:xfrm>
            <a:off x="476280" y="428760"/>
            <a:ext cx="8310600" cy="607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Ванюша\Рабочий стол\фото беслан\10.jpg"/>
          <p:cNvPicPr/>
          <p:nvPr/>
        </p:nvPicPr>
        <p:blipFill>
          <a:blip r:embed="rId1"/>
          <a:stretch/>
        </p:blipFill>
        <p:spPr>
          <a:xfrm>
            <a:off x="990720" y="380880"/>
            <a:ext cx="3581280" cy="396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" name="Picture 3" descr="C:\Documents and Settings\Ванюша\Рабочий стол\фото беслан\10а.jpg"/>
          <p:cNvPicPr/>
          <p:nvPr/>
        </p:nvPicPr>
        <p:blipFill>
          <a:blip r:embed="rId2"/>
          <a:stretch/>
        </p:blipFill>
        <p:spPr>
          <a:xfrm>
            <a:off x="4724280" y="2666880"/>
            <a:ext cx="3657600" cy="358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Ванюша\Рабочий стол\фото беслан\12б.jpg"/>
          <p:cNvPicPr/>
          <p:nvPr/>
        </p:nvPicPr>
        <p:blipFill>
          <a:blip r:embed="rId1"/>
          <a:stretch/>
        </p:blipFill>
        <p:spPr>
          <a:xfrm>
            <a:off x="609480" y="730080"/>
            <a:ext cx="7925040" cy="539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Ванюша\Рабочий стол\фото беслан\14.jpg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37:58Z</dcterms:created>
  <dc:creator>Ванюша</dc:creator>
  <dc:description/>
  <dc:language>en-US</dc:language>
  <cp:lastModifiedBy>Viktor</cp:lastModifiedBy>
  <dcterms:modified xsi:type="dcterms:W3CDTF">2014-09-04T17:12:05Z</dcterms:modified>
  <cp:revision>18</cp:revision>
  <dc:subject/>
  <dc:title>Презентация PowerPoint</dc:title>
</cp:coreProperties>
</file>